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C27-299B-4D0E-BE3C-E139E9F3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BFD-AA2C-444C-BA16-07D93FC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7DC-DF45-4128-AAA4-3F145A33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C30-7B90-478B-BEA7-9F4F1365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CFA-DE53-4DFA-A71C-C2AD7BE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A65-512C-42E2-A72C-2847C52D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D64-4D49-4589-9D1C-D746C0C8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102-B2FE-4214-9784-BE4220C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9EE-D885-4FB6-98CE-FA9B4D9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30F-2EC6-4604-A20C-3F2018D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F9B-6043-42F1-B7FA-6F3A64F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B5A-9E22-475A-BDE9-6B683F9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2928-84BE-46C9-AB3D-EB393BA56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诚信考试，诚实做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课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醒：除必要的文具用品，其它东西请放至指定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109548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ShockwaveFlash1"/>
          <p:cNvGraphicFramePr/>
          <p:nvPr/>
        </p:nvGraphicFramePr>
        <p:xfrm>
          <a:off x="4500720" y="1052640"/>
          <a:ext cx="424800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052640"/>
                    <a:ext cx="4248000" cy="453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6T04:53:46Z</dcterms:created>
  <dc:creator>hznu</dc:creator>
  <dc:description/>
  <dc:language>en-US</dc:language>
  <cp:lastModifiedBy>MC SYSTEM</cp:lastModifiedBy>
  <dcterms:modified xsi:type="dcterms:W3CDTF">2019-06-11T06:42:11Z</dcterms:modified>
  <cp:revision>22</cp:revision>
  <dc:subject/>
  <dc:title>幻灯片 1</dc:title>
</cp:coreProperties>
</file>