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87E-BB1C-41F7-8C17-FB9E2109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A1F-9D24-43B2-B31E-B3C5B219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813-20CF-46FF-94CF-C35DB303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A44-10C8-4BAF-9FAA-D26C2DBF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FC7-105F-43F8-9FD5-C466287A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015E-AC51-415C-83D5-FEDB7BAA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FEF-449D-40D0-8473-EFF9F53C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B9F-634C-4FF7-8D7F-9FC0C9C7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184-6D41-4566-95C5-F4DDA840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D5C2-E27D-493E-B16C-BA870298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9EE-98F2-4DAD-8917-E6397F02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105-25E8-4C6F-B7FB-0B53CDFF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F73F-7673-462C-BD79-468E8FD84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诚信考试，诚实做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95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课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试时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醒：除必要的文具用品，其它东西请放至指定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8320" y="1095480"/>
            <a:ext cx="403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ShockwaveFlash1"/>
          <p:cNvGraphicFramePr/>
          <p:nvPr/>
        </p:nvGraphicFramePr>
        <p:xfrm>
          <a:off x="4500720" y="1052640"/>
          <a:ext cx="424800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052640"/>
                    <a:ext cx="4248000" cy="4537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6T04:53:46Z</dcterms:created>
  <dc:creator>hznu</dc:creator>
  <dc:description/>
  <dc:language>en-US</dc:language>
  <cp:lastModifiedBy>MC SYSTEM</cp:lastModifiedBy>
  <dcterms:modified xsi:type="dcterms:W3CDTF">2019-06-11T06:42:11Z</dcterms:modified>
  <cp:revision>22</cp:revision>
  <dc:subject/>
  <dc:title>幻灯片 1</dc:title>
</cp:coreProperties>
</file>