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6540-F6E3-4755-BCC8-EE16A8DB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ECE-F811-4CC7-AA41-935FCD19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D9F-A9FF-4A21-9735-91E35D8F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985-73CA-4795-8806-D64A69BB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1D7B-AD8F-4BBE-A5C1-77340429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185E-01A6-4A86-BB51-F4F9EB8D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488-371A-4999-936E-33425A0A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D776-4A2B-4301-B019-C5C638DE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E5B4-5CE0-4F07-A9D5-2406BDCF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612F-4A0B-4717-870C-6F6741F3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0981-91AB-4F54-BED5-422E6E2D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79D-0116-4680-8308-8F06D88F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6C84-DC24-49A5-97AE-DD037D9581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诚信考试，诚实做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95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考试课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考试时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醒：除必要的文具用品，其它东西请放至指定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8320" y="1095480"/>
            <a:ext cx="403848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ShockwaveFlash1"/>
          <p:cNvGraphicFramePr/>
          <p:nvPr/>
        </p:nvGraphicFramePr>
        <p:xfrm>
          <a:off x="4500720" y="1052640"/>
          <a:ext cx="4248000" cy="453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1052640"/>
                    <a:ext cx="4248000" cy="4537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6T04:53:46Z</dcterms:created>
  <dc:creator>hznu</dc:creator>
  <dc:description/>
  <dc:language>en-US</dc:language>
  <cp:lastModifiedBy>MC SYSTEM</cp:lastModifiedBy>
  <dcterms:modified xsi:type="dcterms:W3CDTF">2019-06-11T06:42:11Z</dcterms:modified>
  <cp:revision>22</cp:revision>
  <dc:subject/>
  <dc:title>幻灯片 1</dc:title>
</cp:coreProperties>
</file>